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9F1-16D9-41E2-B8C6-A77D4585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724-6A66-4C59-A4E3-8C16D2D2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59A-2AED-46CA-BD27-B044BC75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53D-FC83-450A-BB14-2985EA19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81B6-D993-49A5-A14B-8AEEB584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891B-59FF-4A13-B448-5813E688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2D9B-BA44-47A7-A1CC-3B5C238F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A7D4-3F25-43E8-AF81-E79DF50C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76CE-CDD2-4514-9469-816E0324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C053-A1EC-4F26-8585-170858BB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B01A-1283-4D7C-B516-1C9888C3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AFD-0474-4B80-9484-2602C20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1C8A-6CE1-4655-AE13-D7ECFAAC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A8F2-114A-471B-AF00-AA70A8F0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C564-0872-489B-A575-21C6E7E1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2327-1B8C-4E19-8265-5BC5272E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E8FC-C9F2-4080-B978-513256B0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E77E2-CAE4-4D4A-A000-7860A1B5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0B07-C5CD-427E-A2CC-7200427C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785F-000D-4683-8E6F-5DCF4C2D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56FB-19FA-4895-9543-60B9AE4C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C0A3-1802-48A3-BE25-39ED4289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836-F27A-4230-B133-9CA0F364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DBC5-9E01-424A-8F3F-6AE32333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951D-C5C2-45EC-84FF-C0500CAE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9343-2355-4EBC-8FC7-CC5816C7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C987-94B4-4022-8AB1-AB7A203C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70F8-3031-46CF-B5E4-7093167C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2A06-78F4-43D4-96E1-0FEAFE53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A5D3-41F1-480D-86A8-AFBBE5C7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636B-D2BD-4400-BBF5-5C4D7C30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04706-21BB-4D2F-BC63-FFCD1213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6C2D-060D-4DF5-AAA4-83C8D4F3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CCB-4C08-4FBF-91F8-2C60A672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6CD04-AB27-40DB-8228-3A2E48E4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6C27-8436-49E9-9A16-F83F6FCF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ACCCB-1604-472D-9A15-C71E455C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0CCB-4B7E-4B33-A28F-9076E11A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2385-E946-4DDF-B075-BA02362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2E12-792C-4889-B455-AAB8309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98969-55D0-42FD-BC2A-A39C4BAD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99C5-D505-450E-A214-58C11F4A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7F60-E7B4-415A-8CB0-52C34A91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038-CC5D-4627-90D5-D5502847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C44-3B27-4D49-B563-44FA7E3B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088-B481-4D73-8E75-38F8F997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4D2-5921-462F-A6A8-BB8DE5F4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313-A280-4A32-8C9A-3656816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D1B6-189D-49F9-8059-B297D7F1C124}" type="slidenum">
              <a:rPr b="0" lang="en-N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DBEF-CB34-497D-B7E5-CFD5F27A5FEB}" type="slidenum">
              <a:rPr b="0" lang="en-N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1DBE-F840-4A0D-A86D-201F0A0F814F}" type="slidenum">
              <a:rPr b="0" lang="en-N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A896-91C6-4DC6-A1D6-78C483B1500B}" type="slidenum">
              <a:rPr b="0" lang="en-N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4617b"/>
                </a:solidFill>
                <a:latin typeface="Calibri"/>
              </a:rPr>
              <a:t>                     </a:t>
            </a:r>
            <a:r>
              <a:rPr b="0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3000240" y="221472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nstantia"/>
              </a:rPr>
              <a:t>System 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ounded Rectangle 4"/>
          <p:cNvSpPr/>
          <p:nvPr/>
        </p:nvSpPr>
        <p:spPr>
          <a:xfrm>
            <a:off x="2928960" y="2071800"/>
            <a:ext cx="27860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5"/>
          <p:cNvSpPr/>
          <p:nvPr/>
        </p:nvSpPr>
        <p:spPr>
          <a:xfrm>
            <a:off x="3071880" y="3500280"/>
            <a:ext cx="257184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le 7"/>
          <p:cNvSpPr/>
          <p:nvPr/>
        </p:nvSpPr>
        <p:spPr>
          <a:xfrm>
            <a:off x="1000080" y="471492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8"/>
          <p:cNvSpPr/>
          <p:nvPr/>
        </p:nvSpPr>
        <p:spPr>
          <a:xfrm>
            <a:off x="5143680" y="4714920"/>
            <a:ext cx="25714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3214800" y="21430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Meta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3429000" y="3571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1428840" y="485784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5429160" y="48578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Straight Arrow Connector 14"/>
          <p:cNvCxnSpPr/>
          <p:nvPr/>
        </p:nvCxnSpPr>
        <p:spPr>
          <a:xfrm>
            <a:off x="4356720" y="2714760"/>
            <a:ext cx="1080" cy="7862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6" name="Shape 18"/>
          <p:cNvCxnSpPr>
            <a:stCxn id="198" idx="3"/>
            <a:endCxn id="200" idx="0"/>
          </p:cNvCxnSpPr>
          <p:nvPr/>
        </p:nvCxnSpPr>
        <p:spPr>
          <a:xfrm>
            <a:off x="5643720" y="3857400"/>
            <a:ext cx="785880" cy="857880"/>
          </a:xfrm>
          <a:prstGeom prst="bentConnector2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7" name="Elbow Connector 24"/>
          <p:cNvCxnSpPr>
            <a:stCxn id="200" idx="2"/>
            <a:endCxn id="199" idx="2"/>
          </p:cNvCxnSpPr>
          <p:nvPr/>
        </p:nvCxnSpPr>
        <p:spPr>
          <a:xfrm flipV="1" rot="16200000">
            <a:off x="4268160" y="3411000"/>
            <a:ext cx="71640" cy="4250880"/>
          </a:xfrm>
          <a:prstGeom prst="bentConnector3">
            <a:avLst>
              <a:gd name="adj1" fmla="val -336363"/>
            </a:avLst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8" name="Shape 26"/>
          <p:cNvCxnSpPr>
            <a:stCxn id="199" idx="0"/>
            <a:endCxn id="198" idx="1"/>
          </p:cNvCxnSpPr>
          <p:nvPr/>
        </p:nvCxnSpPr>
        <p:spPr>
          <a:xfrm flipH="1" flipV="1" rot="5400000">
            <a:off x="2196360" y="3839760"/>
            <a:ext cx="857880" cy="893520"/>
          </a:xfrm>
          <a:prstGeom prst="bentConnector2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            </a:t>
            </a: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The System Metaphor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metaphor describes the basic idea and designated aims of the knowledge system to be implemen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It is used as a means of communication between the developer and the user of the system. Thus, the system metaphor describes a common </a:t>
            </a:r>
            <a:r>
              <a:rPr b="0" lang="en-N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of names and a common system descrip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</a:t>
            </a:r>
            <a:r>
              <a:rPr b="1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lanning The Ga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The overall aim of planning the game is to maximize the value and to minimize the development costs of the system to be buil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The value is mainly defined by the consumer satisfaction derived from the usability, the functionality, and the correctness of the syst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1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he Imple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planning game has arrived as a sequence of stories, the implementation phase is initiated. Then, each story is implemented in the determined order given by the elaborated pl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ly, implementation is done during the steering phase, so that new stories can be invented because of new requirements for the costum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</a:t>
            </a:r>
            <a:r>
              <a:rPr b="0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teg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integration has many advantag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unit tests fail, or a bug is discovered, developers might revert the codebase back to a bug-free state, without wasting time debugging. Integration problems are detected and fixed continuous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warning of broken/incompatible code; Early warning of conflicting chang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gration is finished when the integration test passes all valida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integration is done continuously, we can always access a running system at the integration un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                  </a:t>
            </a:r>
            <a:r>
              <a:rPr b="1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Frank Puppe. </a:t>
            </a:r>
            <a:r>
              <a:rPr b="0" i="1" lang="en-NZ" sz="2000" spc="-1" strike="noStrike">
                <a:solidFill>
                  <a:srgbClr val="000000"/>
                </a:solidFill>
                <a:latin typeface="Constantia"/>
              </a:rPr>
              <a:t>Knowledge Reuse among Diagnostic Problem-Solving Methods in the Shell-Kit D3. International </a:t>
            </a: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Journal of Human-Computer Studies, 49:627–649, 199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Joachim Baumeister: </a:t>
            </a:r>
            <a:r>
              <a:rPr b="0" i="1" lang="en-NZ" sz="2000" spc="-1" strike="noStrike">
                <a:solidFill>
                  <a:srgbClr val="000000"/>
                </a:solidFill>
                <a:latin typeface="Constantia"/>
              </a:rPr>
              <a:t>Agile Development of Diagnostic Knowledge Systems, PhD Thesis (submitted), University </a:t>
            </a: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Würzburg, Germany, 2004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Kent Beck. </a:t>
            </a:r>
            <a:r>
              <a:rPr b="0" i="1" lang="en-NZ" sz="2000" spc="-1" strike="noStrike">
                <a:solidFill>
                  <a:srgbClr val="000000"/>
                </a:solidFill>
                <a:latin typeface="Constantia"/>
              </a:rPr>
              <a:t>Extreme Programming Explained: Embrace Change. Addison-Wesley Longman Publishing Co., </a:t>
            </a: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Inc., 200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Joachim Baumeister, Dietmar Seipel, and Frank </a:t>
            </a: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Puppe: </a:t>
            </a:r>
            <a:r>
              <a:rPr b="0" i="1" lang="en-NZ" sz="2000" spc="-1" strike="noStrike">
                <a:solidFill>
                  <a:srgbClr val="000000"/>
                </a:solidFill>
                <a:latin typeface="Constantia"/>
              </a:rPr>
              <a:t>Using Automated Tests and Restructuring Methods for an Agile Development of Diagnostic Knowledge Systems, </a:t>
            </a: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In Proc. of 17th International Florida Artificial Intelligence Researc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7:30Z</dcterms:created>
  <dc:creator>ivor</dc:creator>
  <dc:description/>
  <dc:language>en-US</dc:language>
  <cp:lastModifiedBy>ivor</cp:lastModifiedBy>
  <dcterms:modified xsi:type="dcterms:W3CDTF">2009-11-17T02:02:06Z</dcterms:modified>
  <cp:revision>17</cp:revision>
  <dc:subject/>
  <dc:title>Slide 1</dc:title>
</cp:coreProperties>
</file>